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221BF-27BC-4CA8-B817-F2E953C957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706A0-94F0-4F5A-A874-87013BCE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02CDE-B13A-487A-A5F7-8CDB4CD1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F195-52CD-4917-82EE-6A0D73217C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F0D9-4865-4E59-BC23-812BB054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7F3CF-7164-45D4-BD22-D1ED5691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83202-3C51-4DCD-9A48-C7704213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D09B-7014-4BC8-936A-F18D8FA8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F06F-9B7C-4C77-A155-5815C7A0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1D1E-5633-47C4-B54A-D336D518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8AD9-2DD6-4AC7-900F-2646D899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FE20-D38A-4DB7-8E18-D0C65D00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8E7D-2F04-4CE6-A7A2-98266DDB17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DPOP.WAV" TargetMode="External"/><Relationship Id="rId2" Type="http://schemas.openxmlformats.org/officeDocument/2006/relationships/hyperlink" Target="file:///tmp/home/.config/libreoffice/4/user/gallery/ENDPOP.WAV" TargetMode="External"/><Relationship Id="rId3" Type="http://schemas.openxmlformats.org/officeDocument/2006/relationships/hyperlink" Target="file:///tmp/home/.config/libreoffice/4/user/gallery/ENDPOP.WAV" TargetMode="External"/><Relationship Id="rId4" Type="http://schemas.openxmlformats.org/officeDocument/2006/relationships/hyperlink" Target="file:///tmp/home/.config/libreoffice/4/user/gallery/ENDPOP.WAV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二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抗菌药物概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细菌耐药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626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作用靶位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胞质膜通透性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外排系统功能增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代谢途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9840" y="1915920"/>
            <a:ext cx="5473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的常用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细菌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1803240" y="378936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2556000" y="436572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6360" y="1371240"/>
            <a:ext cx="74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常用术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作用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耐药性产生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1392-1914-4378-890A-B36B87DE98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9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微生物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ntimicrobial drug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用于治疗病原微生物所致感染性疾病的药物，包括抗菌药、抗真菌药、抗病毒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药：抗微生物药、抗寄生虫药和抗恶性肿瘤药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chemotherap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对微生物或寄生虫感染及恶性肿瘤的药物治疗，简称化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332000" y="1120680"/>
            <a:ext cx="65516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8CDC-D1FC-4E76-83A3-88733AE40D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抗菌药物的常用术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iotic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spectru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抑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ostatic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杀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cidal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活性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activity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后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ost antibiotic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A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首次接触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first expose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化疗指数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hemotherapeutic index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I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以化疗药物的半数致死量和半数有效量的比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来表示，化疗指数愈大，表明该药物的毒性越小，临床应用的价值越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914560" y="28386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细菌胞浆膜的通透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2592360" y="5445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871640" y="3890880"/>
            <a:ext cx="762120" cy="665280"/>
            <a:chOff x="1871640" y="3890880"/>
            <a:chExt cx="762120" cy="665280"/>
          </a:xfrm>
        </p:grpSpPr>
        <p:sp>
          <p:nvSpPr>
            <p:cNvPr id="131" name="AutoShape 5"/>
            <p:cNvSpPr/>
            <p:nvPr/>
          </p:nvSpPr>
          <p:spPr>
            <a:xfrm>
              <a:off x="1878120" y="3902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>
              <a:off x="1871640" y="3890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7">
              <a:hlinkClick r:id="rId1"/>
            </p:cNvPr>
            <p:cNvSpPr/>
            <p:nvPr/>
          </p:nvSpPr>
          <p:spPr>
            <a:xfrm>
              <a:off x="1916280" y="393048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50000">
                  <a:srgbClr val="8ac8de"/>
                </a:gs>
                <a:gs pos="100000">
                  <a:srgbClr val="405d67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774960" y="211608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592360" y="4437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197160" y="3916440"/>
            <a:ext cx="342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916360" y="17733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细胞壁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节  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1908000" y="2852640"/>
            <a:ext cx="762120" cy="665280"/>
            <a:chOff x="1908000" y="2852640"/>
            <a:chExt cx="762120" cy="665280"/>
          </a:xfrm>
        </p:grpSpPr>
        <p:sp>
          <p:nvSpPr>
            <p:cNvPr id="140" name="AutoShape 15"/>
            <p:cNvSpPr/>
            <p:nvPr/>
          </p:nvSpPr>
          <p:spPr>
            <a:xfrm>
              <a:off x="1914480" y="2863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>
              <a:off x="1908000" y="2852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7">
              <a:hlinkClick r:id="rId2"/>
            </p:cNvPr>
            <p:cNvSpPr/>
            <p:nvPr/>
          </p:nvSpPr>
          <p:spPr>
            <a:xfrm>
              <a:off x="1952640" y="2892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Line 18"/>
          <p:cNvSpPr/>
          <p:nvPr/>
        </p:nvSpPr>
        <p:spPr>
          <a:xfrm>
            <a:off x="2664000" y="2421000"/>
            <a:ext cx="4213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1908000" y="1827360"/>
            <a:ext cx="762120" cy="664560"/>
            <a:chOff x="1908000" y="1827360"/>
            <a:chExt cx="762120" cy="664560"/>
          </a:xfrm>
        </p:grpSpPr>
        <p:sp>
          <p:nvSpPr>
            <p:cNvPr id="145" name="AutoShape 20"/>
            <p:cNvSpPr/>
            <p:nvPr/>
          </p:nvSpPr>
          <p:spPr>
            <a:xfrm>
              <a:off x="1914480" y="1838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1"/>
            <p:cNvSpPr/>
            <p:nvPr/>
          </p:nvSpPr>
          <p:spPr>
            <a:xfrm>
              <a:off x="1908000" y="1827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2">
              <a:hlinkClick r:id="rId3"/>
            </p:cNvPr>
            <p:cNvSpPr/>
            <p:nvPr/>
          </p:nvSpPr>
          <p:spPr>
            <a:xfrm>
              <a:off x="1952640" y="186660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8" name="Line 23"/>
          <p:cNvSpPr/>
          <p:nvPr/>
        </p:nvSpPr>
        <p:spPr>
          <a:xfrm>
            <a:off x="2592360" y="3429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27520" y="38606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蛋白质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2916360" y="484344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核酸及叶酸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27"/>
          <p:cNvGrpSpPr/>
          <p:nvPr/>
        </p:nvGrpSpPr>
        <p:grpSpPr>
          <a:xfrm>
            <a:off x="1938240" y="4869000"/>
            <a:ext cx="762120" cy="664560"/>
            <a:chOff x="1938240" y="4869000"/>
            <a:chExt cx="762120" cy="664560"/>
          </a:xfrm>
        </p:grpSpPr>
        <p:sp>
          <p:nvSpPr>
            <p:cNvPr id="152" name="AutoShape 28"/>
            <p:cNvSpPr/>
            <p:nvPr/>
          </p:nvSpPr>
          <p:spPr>
            <a:xfrm>
              <a:off x="1944720" y="4879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29"/>
            <p:cNvSpPr/>
            <p:nvPr/>
          </p:nvSpPr>
          <p:spPr>
            <a:xfrm>
              <a:off x="1938240" y="486900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30">
              <a:hlinkClick r:id="rId4"/>
            </p:cNvPr>
            <p:cNvSpPr/>
            <p:nvPr/>
          </p:nvSpPr>
          <p:spPr>
            <a:xfrm>
              <a:off x="1982880" y="490824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84360" y="1162080"/>
            <a:ext cx="78483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细菌耐药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7480" y="1499760"/>
            <a:ext cx="759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terial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细菌对抗菌药不敏感的现象。可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固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insic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获得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quired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交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重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-drug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3E4D-E21B-4033-829B-6C65CAD724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26:29Z</dcterms:modified>
  <cp:revision>62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